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DCD-12C7-4551-A9DC-6CDD3583AD4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B026-D162-4109-9693-49B855DC8E9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CE18-9078-46A7-8E7A-EDAAF137D23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B8A6-7E38-4FA1-B796-989A01CB1D3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201B-A9A5-4E7A-939A-6C5D1AD0EF7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485A-59A4-4BE9-97CD-0C28D11466E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A0A-17F7-4867-988E-487AB9987E8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06C0-E28A-4D3F-8642-ADAF9DA713A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A92-F696-45DA-B121-98D4C1A9712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FEFA-FC0B-4F0B-8821-6D5DC9D2C32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E70A-9A17-4D30-9504-30A3C261308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6E2-D089-4806-BF63-20ECDD22833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F542-2D2B-4402-B467-0B4C4EAA9D9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9F6D-29FC-431C-B0AC-CAAF30BA361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8D1-A804-4BDE-8828-A998B2C78AC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ABE9-6166-424B-915D-B3ECBC50C9F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19AF-D011-4601-8DD0-A5287039954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35FE-8669-4596-ADA4-0B680EE5EF6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6ACD-5C7D-4DA2-842A-A55FA47BFA3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84B-E0A5-4464-8D3C-E666D33E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10B-3D35-4845-8108-EA769FB2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FAC-F2DB-4307-95D0-F167AAEE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2B1-2D33-4333-AF65-B0BE65B6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3994-5804-43E6-B17D-604D55F6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932F-4FDD-4530-A5DA-F0C2BCDC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8EB9-7CD9-40A4-AF5A-5803FEE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5970-CAFB-40D8-9ACB-F22915AD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AED-E6AD-4208-9386-82A02B0E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A3E2-89B9-4651-B9F4-6A90FD1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D2B4-A36E-42BB-B333-22AE11C8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568-6E86-407E-A0EA-F7F8DBA9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D2C5-7A20-4D4A-BD51-B68C0ABC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9338-D491-4FFD-BC5B-098CDAB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9882-17EA-42F9-856D-D8EC8E38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39D3-FFB4-4CD4-A115-78DD49F3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0B73-D2B9-43F5-90D9-AC84C5D6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832F-9A25-49D9-99D7-B050CB61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1418-E544-4270-BBB5-3FD9D4DF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A4C5-BEC9-411A-9CBA-604D2DC3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9B23-CCA7-41E0-9516-ADFC069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D5A8-5DF2-4DE9-AF52-5ABE928E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6C1-1355-4949-864B-DFFBB058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1633-8155-42C7-8F9A-7518A7F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65F7-A5D1-48B2-9C7D-5E4859D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F6D2-0781-4148-A6AA-BAE999E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BC02-298D-4DD4-B0EC-16B08CA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B5D8-04BE-4793-B11E-1E121594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7EC6-2C54-48B7-918C-3823605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AE17-052C-4856-B80B-5B22E708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C629-1B9C-4D13-A09F-93D66D16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16AB-2F45-405D-9D29-1208ED58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1167-919F-42A4-8568-35A75C8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7AF-AB54-490E-9F5D-EB71CAF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D91A-8246-48B4-83D6-02C421CD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F5A8-CA85-4AAE-9BFD-EE7A16F2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9808-3B28-49F8-A5F8-B09E2E2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FCCD-A693-4912-97A0-AD27B71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7CE3-0A9B-4479-A762-D150999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5721D-23FA-4BD2-9538-35FED02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064A-DFCF-4274-8CB4-0122F933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53F5-D232-4282-96C2-30E8B40B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35A3-4135-456A-B817-4881CBF4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73C5-4AFC-4824-A23D-3B89A14C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E31-EBFE-4C7D-AED7-2C009B95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BAEF-F485-4321-90BF-4248BF3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B236C-3B9A-49B9-9BAF-12F10825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959B-82EF-4C73-B6DF-CE9DB47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23A4D-1D83-4342-9862-105E863F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A6507-6879-43D8-A828-07B170D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F293-EDD6-4011-97C8-05E1E09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D34C7-7235-4D4D-B133-DCD9743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960B4-6C48-4C51-B353-E38478B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4406-14C9-4912-83A0-6970C72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97D8D-6290-4859-A3DE-9C0D8F43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D77-AFE2-4060-A37A-493BF8F3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111A-67C7-4992-9B03-D6615925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E270-1018-48AF-A417-EB548CF7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AD4A6-0CE9-4AE8-9524-832E27D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DA206-2887-41AD-975B-FF28F8E7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CFFF2-AC72-4C5E-9BEA-E4A20FD7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350F3-15D2-495A-998B-821E7B2F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FBD6-4840-4018-894F-CD87A60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212C-14ED-474A-8978-D82D651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D6A0-EEE0-4113-9EFD-F3B09384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88ED-D8D7-4521-8EB3-A6B23E3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02C-28AE-4E89-9FF2-6DC0C5D5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28F97-ED2E-4A8B-AA7E-FFF7FEB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C57A4-5912-4EBB-87A7-2622F57C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2E2E6-FF47-4777-91AB-46100618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7A3F2-345F-476C-B7BA-582D51B9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A194-9B8D-4663-ABC0-EFAA9FB5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624C-B919-4684-9881-35EFAEA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17D89-1FD7-42A4-BFD6-C80FAF6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E35B-E3BA-47E9-922A-855E3575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A4B9-4825-4EE5-B2DF-4B20FC5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02A20-45B6-41AF-A83A-DF5784B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830-73BD-4CA7-9715-047D0FD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41F94-4533-405F-9A20-E395157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109A-EED9-4EC8-A81F-BF20B54B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A54FA-72B8-4438-9AB5-0CC4300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64F04-6785-40A2-81CF-43538FA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B41D4-0C14-47DB-949B-FA176DE2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E79-1CFA-4474-84CC-EED311F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5029-C019-47AF-9B27-885957725EB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4BB-0812-4874-958C-DAA208629F8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8338-E1E4-44A3-A491-8CD9197C06DB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933-F0A3-486B-AF8B-ACBCDE37727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9B80-3160-4E62-8926-806C2EBDFFC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112F-DDD2-4902-90A9-CC199E4FC7C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9449-0C84-4AF8-B4B2-CDC70E9AE72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sr-Latn-ME" sz="4400" spc="-1" strike="noStrike">
                <a:solidFill>
                  <a:srgbClr val="572314"/>
                </a:solidFill>
                <a:latin typeface="Arial"/>
                <a:ea typeface="Arial"/>
              </a:rPr>
              <a:t>Osnove Finansija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572314"/>
                </a:solidFill>
                <a:latin typeface="Arial"/>
              </a:rPr>
              <a:t>Osnove finansija</a:t>
            </a:r>
            <a:br>
              <a:rPr sz="2500"/>
            </a:br>
            <a:r>
              <a:rPr b="1" lang="sr-Latn-CS" sz="25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5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5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2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Ana Mugosa</cp:lastModifiedBy>
  <dcterms:modified xsi:type="dcterms:W3CDTF">2020-02-16T11:03:05Z</dcterms:modified>
  <cp:revision>92</cp:revision>
  <dc:subject/>
  <dc:title>Finansijski menadžment</dc:title>
</cp:coreProperties>
</file>